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gif" ContentType="image/gif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EE869-827A-4051-9906-D9032458C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00464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E3F67-06A5-46E7-A51D-8B5210477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004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004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1B966-D80A-4713-B402-7E76A2E77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2133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2133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004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004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004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EBD0E-F59D-4301-9611-C70AA03F6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663A9-5833-4AE0-B0D0-8809EADE7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9D8BF-9165-4DBC-BB5E-2E19AE8C6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27FE2-6978-4BAA-8217-248A4B68B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F27CD-5656-447F-AE97-8CF0C58F3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106668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2218D-F5F6-4B02-8793-EAFC11205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004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224B7-63FE-4924-93AE-80BE3AFA4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004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7FE2C-96A0-48C0-AB3F-29AF8868E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00464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F1A93-DF65-46AF-B3FB-88DDD5CB5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1752480" y="-393840"/>
            <a:ext cx="7925040" cy="72518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i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27FBC-68C3-484D-AFD6-4E38A7E2D749}" type="slidenum">
              <a:rPr b="0" lang="pt-P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7093080" y="6021360"/>
            <a:ext cx="18399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687240" y="620640"/>
            <a:ext cx="84567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800" spc="-1" strike="noStrike">
                <a:solidFill>
                  <a:srgbClr val="000000"/>
                </a:solidFill>
                <a:latin typeface="Times New Roman"/>
              </a:rPr>
              <a:t>TECNOLOGIA DA INFORMAÇÃ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800" spc="-1" strike="noStrike">
                <a:solidFill>
                  <a:srgbClr val="000000"/>
                </a:solidFill>
                <a:latin typeface="Times New Roman"/>
              </a:rPr>
              <a:t>Sociedade da Informaçã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348000" y="2205000"/>
            <a:ext cx="295272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000" spc="-1" strike="noStrike">
                <a:solidFill>
                  <a:srgbClr val="000000"/>
                </a:solidFill>
                <a:latin typeface="Verdana"/>
              </a:rPr>
              <a:t>O Programa Sociedade da Informação</a:t>
            </a:r>
            <a:endParaRPr b="0" i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197000"/>
            <a:ext cx="777240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Mercado, trabalho e oportunidad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Universalização de serviços para a cidadani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Educação na sociedade da informaçã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Conteúdos e identidade cultura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Governo ao alcance de tod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P&amp;D, Tecnologias e aplicaçõ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Infra-estrutura avançada e novos serviç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611280" y="112500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000" spc="-1" strike="noStrike">
                <a:solidFill>
                  <a:srgbClr val="000000"/>
                </a:solidFill>
                <a:latin typeface="Verdana"/>
              </a:rPr>
              <a:t>ESTRUTURA ORGANIZACIONAL DO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000" spc="-1" strike="noStrike">
                <a:solidFill>
                  <a:srgbClr val="000000"/>
                </a:solidFill>
                <a:latin typeface="Verdana"/>
              </a:rPr>
              <a:t>MINISTÉRIO DE CIÊNCIA E TECNOLOGIA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000" spc="-1" strike="noStrike">
                <a:solidFill>
                  <a:srgbClr val="000000"/>
                </a:solidFill>
                <a:latin typeface="Verdana"/>
              </a:rPr>
              <a:t>(MCT)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684360" y="98064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000000"/>
                </a:solidFill>
                <a:latin typeface="Verdana"/>
              </a:rPr>
              <a:t>MODELO DE 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000000"/>
                </a:solidFill>
                <a:latin typeface="Verdana"/>
              </a:rPr>
              <a:t>REFERÊNCIA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pt-BR" sz="4400" spc="-1" strike="noStrike">
                <a:solidFill>
                  <a:srgbClr val="000000"/>
                </a:solidFill>
                <a:latin typeface="Verdana"/>
              </a:rPr>
              <a:t>PARA DISCUSSÃO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684360" y="76464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000000"/>
                </a:solidFill>
                <a:latin typeface="Verdana"/>
              </a:rPr>
              <a:t>ABORDAGEM PARA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pt-BR" sz="4400" spc="-1" strike="noStrike">
                <a:solidFill>
                  <a:srgbClr val="000000"/>
                </a:solidFill>
                <a:latin typeface="Verdana"/>
              </a:rPr>
              <a:t>CRITÉRIOS TÉCNICO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55640" y="54936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Verdana"/>
              </a:rPr>
              <a:t>Exercícios</a:t>
            </a:r>
            <a:endParaRPr b="0" i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50560" y="1197000"/>
            <a:ext cx="928980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1. Como a tecnologia mudou sua vida pessoal e profissional nos últimos 10 anos ?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2. Qual a política de TI do governo federal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3. Como você usa a internet profissionalmente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4. Qual o % do faturamento que sua empresa investe em TI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5. A tecnologia provoca desemprego na sociedade da informação?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903400" y="-14400"/>
            <a:ext cx="3400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000" spc="-1" strike="noStrike">
                <a:solidFill>
                  <a:srgbClr val="000000"/>
                </a:solidFill>
                <a:latin typeface="Verdana"/>
              </a:rPr>
              <a:t>INTRODUÇÃ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24000" y="836640"/>
            <a:ext cx="9072360" cy="37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Mudanças no cotidia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Como essa revolução vem acontecend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Infraestrutura de hardware e telecomunicaç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Superestrada da Informaç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374760" y="755640"/>
            <a:ext cx="5333760" cy="4503600"/>
            <a:chOff x="374760" y="755640"/>
            <a:chExt cx="5333760" cy="4503600"/>
          </a:xfrm>
        </p:grpSpPr>
        <p:pic>
          <p:nvPicPr>
            <p:cNvPr id="49" name="" descr=""/>
            <p:cNvPicPr/>
            <p:nvPr/>
          </p:nvPicPr>
          <p:blipFill>
            <a:blip r:embed="rId1"/>
            <a:stretch/>
          </p:blipFill>
          <p:spPr>
            <a:xfrm>
              <a:off x="374760" y="755640"/>
              <a:ext cx="5333760" cy="450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914400" y="1430280"/>
              <a:ext cx="3054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ahoma"/>
                </a:rPr>
                <a:t>CONTEÚDO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5280" y="765000"/>
            <a:ext cx="5257800" cy="4503600"/>
            <a:chOff x="3635280" y="765000"/>
            <a:chExt cx="5257800" cy="4503600"/>
          </a:xfrm>
        </p:grpSpPr>
        <p:pic>
          <p:nvPicPr>
            <p:cNvPr id="52" name="" descr=""/>
            <p:cNvPicPr/>
            <p:nvPr/>
          </p:nvPicPr>
          <p:blipFill>
            <a:blip r:embed="rId2"/>
            <a:stretch/>
          </p:blipFill>
          <p:spPr>
            <a:xfrm>
              <a:off x="3635280" y="765000"/>
              <a:ext cx="5257800" cy="450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5241600" y="1457280"/>
              <a:ext cx="30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OMUNICAÇÕ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2127240" y="2050920"/>
            <a:ext cx="4952880" cy="4724640"/>
            <a:chOff x="2127240" y="2050920"/>
            <a:chExt cx="4952880" cy="4724640"/>
          </a:xfrm>
        </p:grpSpPr>
        <p:pic>
          <p:nvPicPr>
            <p:cNvPr id="55" name="" descr=""/>
            <p:cNvPicPr/>
            <p:nvPr/>
          </p:nvPicPr>
          <p:blipFill>
            <a:blip r:embed="rId3"/>
            <a:stretch/>
          </p:blipFill>
          <p:spPr>
            <a:xfrm>
              <a:off x="2127240" y="2050920"/>
              <a:ext cx="4952880" cy="472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2971800" y="5318280"/>
              <a:ext cx="3429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ahoma"/>
                </a:rPr>
                <a:t>COMPUTAÇÃ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000000"/>
                </a:solidFill>
                <a:latin typeface="Verdana"/>
              </a:rPr>
              <a:t>A Convergência da Base Tecnológica</a:t>
            </a:r>
            <a:endParaRPr b="0" i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000" spc="-1" strike="noStrike">
                <a:solidFill>
                  <a:srgbClr val="000000"/>
                </a:solidFill>
                <a:latin typeface="Verdana"/>
              </a:rPr>
              <a:t>Crescimento da Internet</a:t>
            </a:r>
            <a:endParaRPr b="0" i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7772400" cy="42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Para atingir 50 milhões de usuári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Computador Pessoal           16 an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Televisão                           13 an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Rádio                                38 an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Internet                              4 an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Conectividade Internacional(de 91 a 97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4360" y="54936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600" spc="-1" strike="noStrike">
                <a:solidFill>
                  <a:srgbClr val="000000"/>
                </a:solidFill>
                <a:latin typeface="Verdana"/>
              </a:rPr>
              <a:t>O Impacto Econômico-Social</a:t>
            </a:r>
            <a:endParaRPr b="0" i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Fenômeno Globa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Dimensão político-econômic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Dimensão Socia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Aumento da disparidade socia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000000"/>
                </a:solidFill>
                <a:latin typeface="Verdana"/>
              </a:rPr>
              <a:t>O Brasil</a:t>
            </a:r>
            <a:endParaRPr b="0" i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4360" y="170028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Necessidade de Políticas para T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Construção de sociedade mais justa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Sustentabilidade do desenvolviment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Efetiva participação socia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Melhoria dos recursos e serviços com a Privatizaçã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Governo Eletrônic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Metade do mercado latino-american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5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400" spc="-1" strike="noStrike">
                <a:solidFill>
                  <a:srgbClr val="000000"/>
                </a:solidFill>
                <a:latin typeface="Verdana"/>
              </a:rPr>
              <a:t>As oportunidades e os Riscos</a:t>
            </a:r>
            <a:endParaRPr b="0" i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Comércio Eletrônico : a nova economi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PME: oportunidades para o low en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Empreendedorismo: novos negóci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Oportunidade de trabalho: mais e melhores empreg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Universalização do acesso: combatendo desigualdades e promover cidadani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5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400" spc="-1" strike="noStrike">
                <a:solidFill>
                  <a:srgbClr val="000000"/>
                </a:solidFill>
                <a:latin typeface="Verdana"/>
              </a:rPr>
              <a:t>As oportunidades e os Riscos</a:t>
            </a:r>
            <a:endParaRPr b="0" i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Educação: desenvolver competência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Valorização de conteúdos e identidade cultura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Governo ao alcance de todos e Lei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Pesquisa e Desenvolviment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Desenvolvimento sustentável: FUTUR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5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400" spc="-1" strike="noStrike">
                <a:solidFill>
                  <a:srgbClr val="000000"/>
                </a:solidFill>
                <a:latin typeface="Verdana"/>
              </a:rPr>
              <a:t>As oportunidades e os Riscos</a:t>
            </a:r>
            <a:endParaRPr b="0" i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Desenvolvendo a Infra-estrutura : a via da integraçã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Desenvolvimento e Integração: Valorização de potencialidades regionai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Integração e cooperação latino-american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31T12:39:55Z</dcterms:created>
  <dc:creator>Carol</dc:creator>
  <dc:description/>
  <dc:language>en-US</dc:language>
  <cp:lastModifiedBy>PNETO</cp:lastModifiedBy>
  <dcterms:modified xsi:type="dcterms:W3CDTF">2007-01-09T17:45:29Z</dcterms:modified>
  <cp:revision>192</cp:revision>
  <dc:subject/>
  <dc:title>Apresentação do PowerPoint</dc:title>
</cp:coreProperties>
</file>